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EF0-C0C8-4280-AF37-465DD318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28F-9DD7-4AE9-8557-FAA2253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032-7DCE-4ACF-97E3-F6F8A8C4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DE3-16E2-4FAF-9700-9EC78072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5B1-2B2D-4B5F-9E25-FD5050F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78C-90E0-41F4-9B27-0B7188FB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C34-1D2E-4250-BC5F-380B8EE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330-6A7B-4483-8588-3ACFB2A5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8C2-1D25-406D-9438-A0CBAFB9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D09-22FC-43BC-A06A-870914A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087-08B1-457B-89FB-B2A3ADF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5D9-5864-407C-81A7-51FE74C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2D4-082E-403B-8D2B-B4CF3BBD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Preposi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ctober 6, 20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685800" y="228600"/>
            <a:ext cx="7848720" cy="6413400"/>
            <a:chOff x="685800" y="228600"/>
            <a:chExt cx="7848720" cy="6413400"/>
          </a:xfrm>
        </p:grpSpPr>
        <p:pic>
          <p:nvPicPr>
            <p:cNvPr id="61" name="Picture 2" descr=""/>
            <p:cNvPicPr/>
            <p:nvPr/>
          </p:nvPicPr>
          <p:blipFill>
            <a:blip r:embed="rId1"/>
            <a:stretch/>
          </p:blipFill>
          <p:spPr>
            <a:xfrm>
              <a:off x="2590920" y="1447920"/>
              <a:ext cx="4190760" cy="51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3"/>
            <p:cNvSpPr/>
            <p:nvPr/>
          </p:nvSpPr>
          <p:spPr>
            <a:xfrm>
              <a:off x="685800" y="228600"/>
              <a:ext cx="784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Where is the elephant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371600" y="254160"/>
            <a:ext cx="647712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5257800"/>
            <a:ext cx="91440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elephant is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Times New Roman"/>
              </a:rPr>
              <a:t>   under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Times New Roman"/>
              </a:rPr>
              <a:t>   the__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question mark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248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GREAT JOB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ursery Language Arts Workbook Revised Edition 19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JJSRdIL158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at is the little boy blue suppose to do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24379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ttle boy blue is suppose to blow his hor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ontent Placeholder 4" descr="200px-Denslow-little-boy-blue2.jpg"/>
          <p:cNvPicPr/>
          <p:nvPr/>
        </p:nvPicPr>
        <p:blipFill>
          <a:blip r:embed="rId1"/>
          <a:stretch/>
        </p:blipFill>
        <p:spPr>
          <a:xfrm>
            <a:off x="4952880" y="236232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ere did the little boy blue fall asleep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2133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ttle boy blue fell asleep under the haystac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ntent Placeholder 4" descr="boyblue1edlee.jpg"/>
          <p:cNvPicPr/>
          <p:nvPr/>
        </p:nvPicPr>
        <p:blipFill>
          <a:blip r:embed="rId1"/>
          <a:stretch/>
        </p:blipFill>
        <p:spPr>
          <a:xfrm>
            <a:off x="4876920" y="2514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at is a Prepositio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eposi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ells th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osi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f an objec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yszemY8Pl8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x8i-Wq_jtc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"/>
          <p:cNvGrpSpPr/>
          <p:nvPr/>
        </p:nvGrpSpPr>
        <p:grpSpPr>
          <a:xfrm>
            <a:off x="1143000" y="304920"/>
            <a:ext cx="7086600" cy="6350040"/>
            <a:chOff x="1143000" y="304920"/>
            <a:chExt cx="7086600" cy="635004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7086600" cy="52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1143000" y="304920"/>
              <a:ext cx="678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Where is the house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14400" y="590400"/>
            <a:ext cx="739152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09680" y="152280"/>
            <a:ext cx="4449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472428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use is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on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the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3:39:42Z</dcterms:created>
  <dc:creator>Pamela Marie Buzby</dc:creator>
  <dc:description/>
  <dc:language>en-US</dc:language>
  <cp:lastModifiedBy>user</cp:lastModifiedBy>
  <cp:lastPrinted>2003-04-30T03:29:45Z</cp:lastPrinted>
  <dcterms:modified xsi:type="dcterms:W3CDTF">2012-10-01T09:41:56Z</dcterms:modified>
  <cp:revision>33</cp:revision>
  <dc:subject/>
  <dc:title>Prepositions</dc:title>
</cp:coreProperties>
</file>